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E05-2705-4D00-BE4C-32FE46AF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7FB-36F4-478D-9A51-E24182D6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D16-CB4E-44D3-9BC3-17AD88D8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770-7E72-4603-A72F-B57B37CA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09AC-C184-437B-9951-E8AE4F5B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C64-21BD-4A18-9C0F-F146164C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E8B9-1E17-4CA6-BE03-63D82ED1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FB44-5FEC-4228-8140-B093D7A9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0AB6-0DA2-4F8B-A14D-29C5EEF6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27E8-074B-483C-A4BF-5FF6FB27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3E59-3083-4597-A835-1A4092E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4AB-C3D0-4EFD-B3CA-D3E5FA41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3B42-3A13-447D-B184-65FEB8C2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8903-47CA-4A6D-B910-ED4F527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84C6-0C27-45CA-966D-2A8E707D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0E17-DE03-42B1-A1C8-283719E8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FA29-966B-4D88-B9BD-9B88EE8D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326-87BE-46F7-A93E-9D5C662A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BFF-5B9D-44C7-8CE5-5CD3C9F4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C0F-B47B-4FDA-9F73-9B558FD8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DF8-8CE4-4538-9FF1-350F8BBC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631-327A-4AAA-9086-BC6998C5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155-963C-4DE6-9829-8EB8B989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A97-BEF7-49B0-B913-DEBA171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d9d9d"/>
              </a:gs>
              <a:gs pos="50000">
                <a:srgbClr val="ffffff">
                  <a:alpha val="50196"/>
                </a:srgbClr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u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amp; Meta Level Archite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ilippe Demae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50605@vub.ac.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lue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ates method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casts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atch messages to announced ag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638680" y="5791320"/>
            <a:ext cx="2819160" cy="457200"/>
            <a:chOff x="5638680" y="5791320"/>
            <a:chExt cx="2819160" cy="457200"/>
          </a:xfrm>
        </p:grpSpPr>
        <p:sp>
          <p:nvSpPr>
            <p:cNvPr id="113" name=""/>
            <p:cNvSpPr/>
            <p:nvPr/>
          </p:nvSpPr>
          <p:spPr>
            <a:xfrm>
              <a:off x="5638680" y="5791320"/>
              <a:ext cx="2819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 can be reu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38680" y="5791320"/>
              <a:ext cx="2666880" cy="45720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ue Components can only be written within a suitable MLA, otherwise reusing them becomes impossi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&amp;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LA is not yet implemented, so no strong semantics are defin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rol flow descrip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X.ms()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M.fsd()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Multicas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block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LA for glue components in a synchronous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distributed programs easier to wr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 existing running compon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control flow between compon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defined inte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with own code/data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d on a W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d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on between components defines an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glue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fficult because of interface ada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se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e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unt of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of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of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 language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imi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of syntax/seman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general: extending the meta level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a method invocation using str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tension syntax/semantic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AnAgent.&lt;“string”&gt;(argLis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=&gt; MLA should have an ‘invoke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Class Message S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ual creation of “A.msg(argList)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LA should al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s to argLis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order of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den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of receiver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Entry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05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Not 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MessageNotUnderstood(ms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 incoming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s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a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uence return mechan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retu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redirect “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writes message s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Det(aMatrix) ::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lt;do calc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GetDisplay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display(result)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calcDet(matrx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.displa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038480"/>
            <a:ext cx="4419720" cy="6098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343040" y="4648320"/>
            <a:ext cx="1066680" cy="11430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11:07:43Z</dcterms:created>
  <dc:creator>Verbeke</dc:creator>
  <dc:description/>
  <dc:language>en-US</dc:language>
  <cp:lastModifiedBy>werner van belle</cp:lastModifiedBy>
  <cp:lastPrinted>2000-07-03T12:12:12Z</cp:lastPrinted>
  <dcterms:modified xsi:type="dcterms:W3CDTF">2000-07-03T13:15:26Z</dcterms:modified>
  <cp:revision>6</cp:revision>
  <dc:subject/>
  <dc:title>Components</dc:title>
</cp:coreProperties>
</file>